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EFBE-F688-4E3C-8AF0-D1AE2E6E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888F-FDFA-41B5-A0B6-5F5BE30A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EAB0-67FA-401F-AB05-ECE21357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A5F0-6F17-4670-9352-87E1F7E2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497E-4220-421D-B0DF-3FF6D1E0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EFFB-CB40-4DBA-A464-698A7312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956F-C4CB-45F8-87A4-4EE03F74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B173-1BA7-474A-BAA3-492AF3DC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DE5D-BB4E-4D6D-942C-AD36C046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D49C-FC6A-422A-BD03-AED7DE9A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B255-DE3C-4FCB-8661-41FAE606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508-2763-464D-9C53-F64F9837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DA7C-949A-4F57-A277-6BC2AE2A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AE78-EBF3-4C7B-B3B4-2EC696BC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5AC3-536B-47D3-AA95-23FA076B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330B-D251-477A-B3F5-96EA3C8C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6F5C-3E7C-415D-8790-47F29FBB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A87-BC2D-4186-B3D7-FB50FE71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A58B-5326-4ACC-BAF9-2487BDDF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3672-B13E-458E-8276-A4CAB442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47AC-9AE9-480E-B075-A79B05E3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274-89C6-4085-9FC1-7DF7CD28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B6BE-FD74-4405-B7C5-80C73C7B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E546-EAD6-431D-83F9-4A8F33AD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63EF-496E-4D03-81EE-3898D6F1771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AE4F-6E71-43FD-9BE8-8F893B54FAE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8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440" y="457200"/>
            <a:ext cx="5181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5400" spc="-1" strike="noStrike">
                <a:solidFill>
                  <a:srgbClr val="482400"/>
                </a:solidFill>
                <a:latin typeface="Times New Roman"/>
              </a:rPr>
              <a:t>CP Psychology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The Brain and Behavi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2400"/>
                </a:solidFill>
                <a:latin typeface="Times New Roman"/>
              </a:rPr>
              <a:t>Section 4Q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rainmap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152280"/>
            <a:ext cx="853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3808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4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brainmap" descr="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1614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85800" y="1752480"/>
            <a:ext cx="4389480" cy="5105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105520" y="1905120"/>
            <a:ext cx="40384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Split Brai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 condition in which the two hemispheres of the brain are isolated by cutting the connecting fibers (mainly those of the corpus callosu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treat severe </a:t>
            </a:r>
            <a:r>
              <a:rPr b="0" lang="en-US" sz="2800" spc="-1" strike="noStrike">
                <a:solidFill>
                  <a:srgbClr val="666600"/>
                </a:solidFill>
                <a:latin typeface="Times New Roman"/>
              </a:rPr>
              <a:t>Epilep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04920" y="152280"/>
            <a:ext cx="853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81480" y="1905120"/>
            <a:ext cx="3962520" cy="54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d69b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 half of each eye’s visual field goes to the right hemisphere and vice ve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69b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is shared across Corpus Callos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69b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tial (visual) in right, verbal in left (flipped for left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69b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nt: eye m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brainmap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614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212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4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573200"/>
            <a:ext cx="83818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ain’s 3 sections: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Hindbrain, Midbrain, Foreb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indbrai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cated near the base of the sk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Medull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ntrols breathing and reflex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Pon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sists with balance, hearing, other fun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Cerebellu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ssists with control of posture/bal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Reticular Formatio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rols arousal (attention, sleep, arousal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dbrai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ust above the hindbrain, it integrates and relays sensory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idbrain and hindbra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e most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ain 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brainmap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614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2120" y="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4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990720" y="1676520"/>
            <a:ext cx="7696080" cy="4630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90920" y="6338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ebell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43430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6338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010280" y="41911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16765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indb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3505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4290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5715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2133720"/>
            <a:ext cx="106668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29718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2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352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idb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933960" y="2971800"/>
            <a:ext cx="53316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rainmap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161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62120" y="3808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4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752480"/>
            <a:ext cx="815328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ebrai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d  above the Hind/Midbrain, includes the Thalamus/Hypothalamus/Cerebr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halam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grates sensory inputs/routes 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Hypothalamu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s emotions, sleep, plea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66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666600"/>
                </a:solidFill>
                <a:latin typeface="Times New Roman"/>
              </a:rPr>
              <a:t>Forebr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argest part of the brain, where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er-level thinking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kes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erebru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t of forebrain that stores unconscious/conscious memories (is “the brain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erebral Cortex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most layer that stores complex,abstract info used to think (makes us “u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brainmap" descr="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614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3808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4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600200" y="2362320"/>
            <a:ext cx="6477120" cy="4495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514600" y="17524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e Limbic System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within Forebr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reb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209680"/>
            <a:ext cx="76212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21337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4038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la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952880" y="426708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27432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27432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28195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4724280"/>
            <a:ext cx="44193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eb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029200" y="3276720"/>
            <a:ext cx="22860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brainmap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614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6212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4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523880" y="2408400"/>
            <a:ext cx="6629400" cy="4195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182880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udi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Visual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rt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brainmap" descr=""/>
          <p:cNvPicPr/>
          <p:nvPr/>
        </p:nvPicPr>
        <p:blipFill>
          <a:blip r:embed="rId2"/>
          <a:stretch/>
        </p:blipFill>
        <p:spPr>
          <a:xfrm>
            <a:off x="23760" y="1143000"/>
            <a:ext cx="5310360" cy="5715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334120" y="1752480"/>
            <a:ext cx="380988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Lob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describe regions of the cerebral cortex where certain activities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; motor control, speech, vision, sensation, he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00"/>
                </a:solidFill>
                <a:latin typeface="Times New Roman"/>
              </a:rPr>
              <a:t>Frontal lo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generally believed to control </a:t>
            </a:r>
            <a:r>
              <a:rPr b="0" i="1" lang="en-US" sz="2800" spc="-1" strike="noStrike">
                <a:solidFill>
                  <a:srgbClr val="666600"/>
                </a:solidFill>
                <a:latin typeface="Times New Roman"/>
              </a:rPr>
              <a:t>persona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666600"/>
                </a:solidFill>
                <a:latin typeface="Times New Roman"/>
              </a:rPr>
              <a:t>crea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808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4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brainmap" descr=""/>
          <p:cNvPicPr/>
          <p:nvPr/>
        </p:nvPicPr>
        <p:blipFill>
          <a:blip r:embed="rId4"/>
          <a:stretch/>
        </p:blipFill>
        <p:spPr>
          <a:xfrm>
            <a:off x="7391520" y="0"/>
            <a:ext cx="175248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152280"/>
            <a:ext cx="853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62120" y="2055240"/>
            <a:ext cx="5105160" cy="4192920"/>
            <a:chOff x="762120" y="2055240"/>
            <a:chExt cx="5105160" cy="4192920"/>
          </a:xfrm>
        </p:grpSpPr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762120" y="2210400"/>
              <a:ext cx="5105160" cy="40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238120" y="2055240"/>
              <a:ext cx="2035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rpus callo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562720" y="243828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orpus Callos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69b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and of neural f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69b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s the two brain hemisphe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69b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es messages between the hemisph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3808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4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rainmap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9:48:30Z</dcterms:created>
  <dc:creator>Martel</dc:creator>
  <dc:description/>
  <dc:language>en-US</dc:language>
  <cp:lastModifiedBy>Authorized User</cp:lastModifiedBy>
  <dcterms:modified xsi:type="dcterms:W3CDTF">2006-12-05T15:25:56Z</dcterms:modified>
  <cp:revision>159</cp:revision>
  <dc:subject/>
  <dc:title>No Slide Title</dc:title>
</cp:coreProperties>
</file>